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BD9C-99F5-415F-AF3D-BA2D6CAE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5084-63BD-49C9-A9EC-66E7E14B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4FEB-9952-49FC-9CD0-E75D80F8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9AE7-C67A-44EB-B536-1803DE12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0FCD-4137-4FEF-8526-F590034D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4F27-AAF9-4A11-828C-F8658206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16FA-24C3-4AA1-82B2-3FE5732F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54A0-CFAE-4DFD-B878-EC2FC361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CC6B-91D9-4E22-B4BC-1482C8DF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B528-5CE0-49EC-A1A8-9902AA3B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D2AF-1AB7-4F8C-AAAA-359A713E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B029-C7F1-414D-B5F9-6AC786A2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99E3-78E7-4FA4-9BBE-CFCC0E1F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0A72-7750-46D2-B1EF-78F1E7B9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333B-4436-422F-9405-E1A7B6B8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E17A-65ED-430D-82E4-BC5018E3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7A83-F04D-44E0-A45F-1EF568E5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7251-1250-42B1-B95E-8EFD6681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34C-142C-4DA9-933F-E48F1467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F6BA-CDEF-4CF5-89FB-1E76663E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B5FB-C1AE-4F46-A1DA-CB268081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BA4-22DE-4E5D-BF37-8785A819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7D89-C8CF-4F35-B164-0CC93DA8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7C0-6E76-49DE-840B-DB0ACEAF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9677-7EAB-46B5-9251-57016DC084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DA29-B6A5-4150-AED0-A528DB2F70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CVT</cp:lastModifiedBy>
  <dcterms:modified xsi:type="dcterms:W3CDTF">2006-08-30T14:24:34Z</dcterms:modified>
  <cp:revision>196</cp:revision>
  <dc:subject/>
  <dc:title>Parallel communicating (PC) grammar systems</dc:title>
</cp:coreProperties>
</file>